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42C-B6C2-4F32-B132-58D0BA78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6C3-80C2-470A-9F6A-19386654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B99-5667-4841-BD2B-CD12AD56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DA6-EA15-4765-B4BD-286033C2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98B-C648-438F-8FCD-4B8E693E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C83-418C-427E-A9AF-51AA2484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302-D77B-457E-A57D-E9564319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8CD-D287-4EDF-860F-76B84566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E04-2639-4A91-9EFE-B4D184C1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78B-AE2A-4875-BADF-A5F82F41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9ED-324D-405D-A9DB-D6653CF7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8D4-6E43-4550-9FE7-3E6483C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A999-C558-40A8-93F8-42BBF39694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ID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7772400" cy="232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80560" y="29718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638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8680" y="299556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8680" y="312408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58680" y="312408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9144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86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581280" cy="121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693432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3733920"/>
            <a:ext cx="698688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* = size of source population in stead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= time length of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867640" cy="20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772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41911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772400" cy="241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4:03Z</dcterms:modified>
  <cp:revision>218</cp:revision>
  <dc:subject/>
  <dc:title>Slide 1</dc:title>
</cp:coreProperties>
</file>